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FAC-EE32-47B1-9FA0-9BF0E67D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6BC-AA7A-4275-9A3B-D558F995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1C8-FB67-4D4F-BCA0-8D36E24D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006-B331-4CD7-9D08-A6C1459E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363-0E8A-4345-B3B2-D325482B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0E9-C62F-40B1-9C16-25F30DA4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77A-DC81-48F2-A777-651F46EE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1D7-BB96-44ED-8E9C-142121EF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576-1586-47A8-8AFD-33E1653A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95D-807E-4353-834F-4A2C003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C8D-A6CE-4E85-B973-A722F23C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C42-ECA9-45EB-9CDC-D943443A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C376-82FD-4EC9-BEE1-626D69501B6D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7410-6F81-4FE0-ADD5-88272CA56D77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roject JERRY Sprint Plann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6880" y="744480"/>
          <a:ext cx="8305920" cy="39420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ddress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enu options with some functions, e.g. copy,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Java (remov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1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6880" y="744480"/>
          <a:ext cx="8305920" cy="52927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ps including sub-m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nter ow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ate and time setup (covered by Sprint 2 - Sett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UI adaption on network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 call setting: call barring incoming/outgoing if abroad (new ), effect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6880" y="750960"/>
          <a:ext cx="8305920" cy="57560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rge entry in sim to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mplicated functions: add reminder, sim backup w/o view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, Ringer side key and lock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er side key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 in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ck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6880" y="750960"/>
          <a:ext cx="8305920" cy="55641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iding eff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hronization including remote sync and sync with 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UI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workflow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 tong, keypad tone, time/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y number, language, change P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emplates/Draf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(Layou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6880" y="750960"/>
          <a:ext cx="8305920" cy="41115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msg info table support in PIM 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orting mechan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 implementation in P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xport interface (insert contact, select contact) to external appl. i.e. messaging, I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6880" y="750960"/>
          <a:ext cx="8305920" cy="4384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rda, BT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mera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rowser (h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ing UI notification about accessory from connectivity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2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6880" y="750960"/>
          <a:ext cx="8305920" cy="32893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Key lock screen after switching the key lock hard ke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box UI (all message 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event dialog (part of Unified Inbo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s full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l call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andling different network release c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m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-call menu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6880" y="750960"/>
          <a:ext cx="8305920" cy="55562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get and update msg table from inbox UI/sent msg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msg and delete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MS/MMS client up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ctur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e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- full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OS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menu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6880" y="750960"/>
          <a:ext cx="8305920" cy="55674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aunch external application, e.g. Voice Messaging, SMS,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selection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opup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daption in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21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30720"/>
            <a:ext cx="8305920" cy="132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6880" y="750960"/>
          <a:ext cx="8305920" cy="491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M remo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RM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ll alarm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3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pli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elcome t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rging display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terruption by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paration of Call functionality from the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CSM Message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al Dialog Updation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6880" y="750960"/>
          <a:ext cx="8305920" cy="52801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eep mode with timer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ack to las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saver handling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Message (S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ver functionality in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mplementation by U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ing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6880" y="750960"/>
          <a:ext cx="8305920" cy="464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me/date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one/volume/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options in alarm clock, i.e.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Fun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sent me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(All) wiz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6880" y="750960"/>
          <a:ext cx="8305920" cy="2665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7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 between message table in PIM and message DB in AppM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4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Curren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Database setup done in SISL, Beijing and 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print 1 development in progres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: Yang Yong Qia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.5 years in software development and system testing for Mobile phones, 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3880" y="812880"/>
          <a:ext cx="8305920" cy="5538600"/>
        </p:xfrm>
        <a:graphic>
          <a:graphicData uri="http://schemas.openxmlformats.org/drawingml/2006/table">
            <a:tbl>
              <a:tblPr/>
              <a:tblGrid>
                <a:gridCol w="2492640"/>
                <a:gridCol w="2314440"/>
                <a:gridCol w="735120"/>
                <a:gridCol w="1341360"/>
                <a:gridCol w="1422360"/>
              </a:tblGrid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c simu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 hard keys simulation including blinking effect for Home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de keys 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nges in C_MobSIM for removing/disabling/hiding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 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N input including error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 basic l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me/Contact/Menu hard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6880" y="744480"/>
          <a:ext cx="8305920" cy="5661000"/>
        </p:xfrm>
        <a:graphic>
          <a:graphicData uri="http://schemas.openxmlformats.org/drawingml/2006/table">
            <a:tbl>
              <a:tblPr/>
              <a:tblGrid>
                <a:gridCol w="2266920"/>
                <a:gridCol w="2374920"/>
                <a:gridCol w="911520"/>
                <a:gridCol w="133488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s, color schemes, Icons, Fo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lor scheme switching interface, define additional virtual col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resource define color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 color scheme switching(ID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origination, termination, call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eadline and soft key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ok and feel w/o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oll b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07:41:02Z</dcterms:modified>
  <cp:revision>212</cp:revision>
  <dc:subject/>
  <dc:title>PowerPoint</dc:title>
</cp:coreProperties>
</file>